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5.png" ContentType="image/png"/>
  <Override PartName="/ppt/media/image15.wmf" ContentType="image/x-wmf"/>
  <Override PartName="/ppt/media/image4.gif" ContentType="image/gif"/>
  <Override PartName="/ppt/media/image7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9AA-D61A-40CD-B166-9FB6C5A2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275-DE56-40AA-9D09-F03A7432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9E5-7F1C-4BCC-B9DD-BFA27C18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B6C-D891-4427-87F5-ADBAA0DC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D851-00E8-4D21-963B-E24CBE7E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DBD9-1BBB-4E34-B5AD-2F4E046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2173-EB5F-4FC0-B26F-BE322B72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A26B-4E1C-4021-A9C3-8CADF51E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40C3-5FCD-4E27-924F-AD54F6AB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C9FF-7F50-4376-9200-481285B9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B9DC-8B70-4BA0-AB4C-261E8ED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1A1-8798-4CE3-B3D7-EDE19F8C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4556-E550-4990-9F1A-CFD3D7F5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6E97-B59B-4646-8DE2-E67F6FD7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42CD-D116-4B17-9883-585CC3D3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7230-9418-4325-B3D9-04828A75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91E1-842F-4ABD-A201-720A6FF3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851-020A-4356-A5C6-EF1FB450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A13-7B8F-4425-943C-D4ABD061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B65-75C0-4431-B022-A8FEB3E8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009-503B-4465-8622-A464FAA9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8F1-3FC4-4083-B007-1BAAE5C1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218-9D1F-4887-9561-36F3D55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128-7896-4EC4-A763-0B879E01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artikos.com/chile/index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5764-C701-4955-872D-B7E48097642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" name="home_0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34" name="commerce_one" descr=""/>
          <p:cNvPicPr/>
          <p:nvPr/>
        </p:nvPicPr>
        <p:blipFill>
          <a:blip r:embed="rId5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2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9219-F3C6-402E-BD11-C3DA3A52937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artikos.com/chile/index.htm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Arial"/>
              </a:rPr>
              <a:t>Desarrollo del negocio electrónic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ernán Herrera Gom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erente Gene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rtikos Chile S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www.artikos.c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2873520"/>
            <a:ext cx="9144000" cy="1112760"/>
            <a:chOff x="0" y="2873520"/>
            <a:chExt cx="9144000" cy="1112760"/>
          </a:xfrm>
        </p:grpSpPr>
        <p:sp>
          <p:nvSpPr>
            <p:cNvPr id="146" name=""/>
            <p:cNvSpPr/>
            <p:nvPr/>
          </p:nvSpPr>
          <p:spPr>
            <a:xfrm>
              <a:off x="0" y="2873520"/>
              <a:ext cx="91440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873520"/>
              <a:ext cx="38257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 u="sng">
                  <a:solidFill>
                    <a:srgbClr val="f98d4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s-ES" sz="67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743200" cy="861840"/>
          </a:xfrm>
          <a:prstGeom prst="rect">
            <a:avLst/>
          </a:prstGeom>
          <a:ln w="0">
            <a:noFill/>
          </a:ln>
        </p:spPr>
      </p:pic>
      <p:pic>
        <p:nvPicPr>
          <p:cNvPr id="149" name="commerce_one" descr=""/>
          <p:cNvPicPr/>
          <p:nvPr/>
        </p:nvPicPr>
        <p:blipFill>
          <a:blip r:embed="rId4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879720" y="1638360"/>
            <a:ext cx="1386000" cy="3581280"/>
            <a:chOff x="3879720" y="1638360"/>
            <a:chExt cx="1386000" cy="3581280"/>
          </a:xfrm>
        </p:grpSpPr>
        <p:sp>
          <p:nvSpPr>
            <p:cNvPr id="151" name=""/>
            <p:cNvSpPr/>
            <p:nvPr/>
          </p:nvSpPr>
          <p:spPr>
            <a:xfrm>
              <a:off x="3879720" y="1638360"/>
              <a:ext cx="13842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9720" y="1638360"/>
              <a:ext cx="138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home_0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752480" y="838080"/>
          <a:ext cx="9795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838080"/>
                    <a:ext cx="9795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Logo%20Somos%20Diferentes" descr=""/>
          <p:cNvPicPr/>
          <p:nvPr/>
        </p:nvPicPr>
        <p:blipFill>
          <a:blip r:embed="rId9"/>
          <a:stretch/>
        </p:blipFill>
        <p:spPr>
          <a:xfrm>
            <a:off x="0" y="838080"/>
            <a:ext cx="99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966840" y="304920"/>
            <a:ext cx="488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FINICIÓN Y ANTECED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NEGOCIO B2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7640" y="1219320"/>
            <a:ext cx="56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Arial"/>
              </a:rPr>
              <a:t>Comercio Electrónico Business-to-Business (B2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6680" y="1523880"/>
            <a:ext cx="8221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ansacciones de compra-venta en Internet entre Compradores y Proveed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principales beneficios s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Reducción de 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Ventaja Competitiva en el emergente Mercado Vir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umentar el Conocimiento de los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cceso a nuevos merc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Eficiencia en los Procesos de Nego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Rel%20Comp-Vend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701028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l%20Comp-Vend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047760" cy="232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20" name=""/>
          <p:cNvSpPr/>
          <p:nvPr/>
        </p:nvSpPr>
        <p:spPr>
          <a:xfrm>
            <a:off x="4800600" y="2286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Arial"/>
              </a:rPr>
              <a:t>FUENTES DE GENERACIÓN DE INGRESOS DE UN MARKETPLACE B2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6095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PR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486400"/>
            <a:ext cx="9907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1600200"/>
            <a:ext cx="2209680" cy="60948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23623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ones  (% Fluj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SUBA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65760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0920" y="3733920"/>
            <a:ext cx="38088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TRANSAC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6095880"/>
            <a:ext cx="221004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 (CLIC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UBLI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536800">
            <a:off x="6248520" y="533412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81680" y="167652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Arquitectura Market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1419120"/>
            <a:ext cx="6553080" cy="1627560"/>
          </a:xfrm>
          <a:prstGeom prst="rect">
            <a:avLst/>
          </a:prstGeom>
          <a:solidFill>
            <a:srgbClr val="2663a0"/>
          </a:solidFill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ogíst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ag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idad y Certific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actor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ubastas y Licit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rocurement Ca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Administración de Contenidos y Catálo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Comercio Exterior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Otros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246400" y="3127320"/>
            <a:ext cx="6669000" cy="2892240"/>
            <a:chOff x="2246400" y="3127320"/>
            <a:chExt cx="6669000" cy="2892240"/>
          </a:xfrm>
        </p:grpSpPr>
        <p:sp>
          <p:nvSpPr>
            <p:cNvPr id="339" name=""/>
            <p:cNvSpPr/>
            <p:nvPr/>
          </p:nvSpPr>
          <p:spPr>
            <a:xfrm rot="16200000">
              <a:off x="1133640" y="4588920"/>
              <a:ext cx="25509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alce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445760" y="458640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uteo / Mapp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75212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lanific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20664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rogramación de Activ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23760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Optim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269028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3004560" y="45878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umpli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46400" y="3127320"/>
              <a:ext cx="21873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mer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55828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Definición de Proces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58924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Workflo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6208200" y="4588200"/>
              <a:ext cx="2549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Almacena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651636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Documen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68306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Proyec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71402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oporte a Cli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74782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Tercer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6880" y="3127320"/>
              <a:ext cx="2198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labo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367308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vers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42969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incron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6065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Merchandis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492084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Búsqueda Paramétr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5231880" y="45878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Acces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3362400" y="4588920"/>
              <a:ext cx="254808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Fu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95680" y="3132000"/>
              <a:ext cx="21780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teni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398412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Configu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966240" y="1432080"/>
            <a:ext cx="12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9640" y="2971800"/>
            <a:ext cx="158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Bás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Market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135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2. Roles en un </a:t>
            </a:r>
            <a:br>
              <a:rPr sz="4000"/>
            </a:b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Marketplace B2B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grupadores de 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dor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dministrador del Market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es de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con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servicios complementarios: Logística, Finanzas, informació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dores de trá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5120" y="363960"/>
            <a:ext cx="7162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3. Factores Críticos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de Exit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dopción de proveedores y compr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masa crítica de empresas y una liquidez del mer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spaldo de socios de negocios con presencia en la economía r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servicios de valor agreg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loc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2033640" y="2133720"/>
            <a:ext cx="2450880" cy="2819160"/>
            <a:chOff x="2033640" y="2133720"/>
            <a:chExt cx="2450880" cy="2819160"/>
          </a:xfrm>
        </p:grpSpPr>
        <p:sp>
          <p:nvSpPr>
            <p:cNvPr id="370" name=""/>
            <p:cNvSpPr/>
            <p:nvPr/>
          </p:nvSpPr>
          <p:spPr>
            <a:xfrm>
              <a:off x="2033640" y="213372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50200" y="2239920"/>
              <a:ext cx="241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Automatizació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roceso de Comp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3640" y="30862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97080" y="3192480"/>
              <a:ext cx="212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liminar Comp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mprevis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3640" y="40384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15240" y="414504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conomías 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scal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16560" y="2133720"/>
            <a:ext cx="2539800" cy="2819160"/>
            <a:chOff x="4516560" y="2133720"/>
            <a:chExt cx="2539800" cy="2819160"/>
          </a:xfrm>
        </p:grpSpPr>
        <p:sp>
          <p:nvSpPr>
            <p:cNvPr id="377" name=""/>
            <p:cNvSpPr/>
            <p:nvPr/>
          </p:nvSpPr>
          <p:spPr>
            <a:xfrm>
              <a:off x="4516560" y="213372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24160" y="2239920"/>
              <a:ext cx="152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Redu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osto Ven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6560" y="30862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3800" y="3192480"/>
              <a:ext cx="24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ncrementa Ingres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or 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16560" y="40384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56360" y="4145040"/>
              <a:ext cx="105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Nue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lie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86200" y="3049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9933"/>
                </a:solidFill>
                <a:latin typeface="Times New Roman"/>
              </a:rPr>
              <a:t>4. Benefic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25000" y="1736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5029200"/>
            <a:ext cx="5029200" cy="1066680"/>
          </a:xfrm>
          <a:prstGeom prst="flowChartMerge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74600" y="511164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44"/>
                </a:solidFill>
                <a:latin typeface="Times New Roman"/>
              </a:rPr>
              <a:t>+ RO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280" y="44136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66"/>
                </a:solidFill>
                <a:latin typeface="Arial"/>
              </a:rPr>
              <a:t>B</a:t>
            </a:r>
            <a:br>
              <a:rPr sz="2800"/>
            </a:br>
            <a:r>
              <a:rPr b="0" i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66"/>
                </a:solidFill>
                <a:latin typeface="Arial"/>
              </a:rPr>
              <a:t>+ R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68280" y="173664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Beneficios para el Comprador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Potenciales </a:t>
            </a:r>
            <a:r>
              <a:rPr b="1" i="1" lang="es-ES_tradnl" sz="2800" spc="-1" strike="noStrike">
                <a:solidFill>
                  <a:srgbClr val="f98d43"/>
                </a:solidFill>
                <a:latin typeface="Arial"/>
              </a:rPr>
              <a:t>Ahorros 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23760" y="1604880"/>
          <a:ext cx="745812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604880"/>
                    <a:ext cx="7458120" cy="411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44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25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5. Caso: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El mercado vertical de la Construcció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ámara Chilena de la Construcción, es una entidad gremial que agrupa a las principales empresas del sector en C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ector implica un volumen de negocios equivalente a casi el 10% del PG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ChC Marketplace es la empresa generada para operar un portal B2B para transar bienes propios de la indus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realizó un proceso de selección de soluciones tecnológicas y de nego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05740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Arial Black"/>
              </a:rPr>
              <a:t>6. Visión de 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838080"/>
            <a:ext cx="7467480" cy="762120"/>
          </a:xfrm>
          <a:prstGeom prst="rightArrow">
            <a:avLst>
              <a:gd name="adj1" fmla="val 50000"/>
              <a:gd name="adj2" fmla="val 2449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43400" y="1828800"/>
            <a:ext cx="0" cy="5029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82880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Presente  </a:t>
            </a: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Evol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228600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specializados en partes de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esencia relevante de empresas.com y Telecomunicadoras posicionadas como  Mercados Electrón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basados en una Plataforma Tecnológica  ( CommerceOne, Ariba y Oracle lídere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es también socio en el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l intercambio de transacciones en el merc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de transacciones es fundamentalmente 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36232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 Electrónicos cubren toda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osicionamiento de los Bancos (  basado en fortalezas como cartera de clientes, trust, servicios financieros 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pueden operar con Múltiples plataformas tecnológicas interconectadas entre ellas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vuelve a ser solo eso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 los servicios financieros y de valor agregad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global de transacciones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141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cc00"/>
                </a:solidFill>
                <a:uFillTx/>
                <a:latin typeface="Arial"/>
              </a:rPr>
              <a:t>Agend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 Conceptos del negocio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 Actores y roles en 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 Factores Críticos de Éx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 Benef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. Caso de Negocio: Marketplace de la Constr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6. Tendencias y evolución d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commerce_one" descr=""/>
          <p:cNvPicPr/>
          <p:nvPr/>
        </p:nvPicPr>
        <p:blipFill>
          <a:blip r:embed="rId1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pic>
        <p:nvPicPr>
          <p:cNvPr id="160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9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1. Conceptos del Negoci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home_0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163" name="commerce_one" descr=""/>
          <p:cNvPicPr/>
          <p:nvPr/>
        </p:nvPicPr>
        <p:blipFill>
          <a:blip r:embed="rId3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410080" y="5029200"/>
            <a:ext cx="3581640" cy="838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4648320"/>
            <a:ext cx="358164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32160" y="1143000"/>
            <a:ext cx="482616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52424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5320" y="51213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B2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63560" y="5114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568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07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79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701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9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273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33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845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</a:path>
            </a:pathLst>
          </a:custGeom>
          <a:noFill/>
          <a:ln w="46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5680" y="53499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B2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63560" y="534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5680" y="5345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557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129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4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1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9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9704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1.7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6216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.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5320" y="557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B2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63560" y="557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5680" y="5572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55760" y="5572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55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1.3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27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.5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704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4.3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6216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.9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108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6012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23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1116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4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2362320" y="838080"/>
            <a:ext cx="10211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9933"/>
                </a:solidFill>
                <a:latin typeface="Arial"/>
              </a:rPr>
              <a:t>La Revolución del E-Commerce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en US$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95680" cy="31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38088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0024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38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040" y="4151160"/>
            <a:ext cx="1219320" cy="3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00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8 B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1752480"/>
            <a:ext cx="1219320" cy="50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1.3 Tr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" y="1738440"/>
            <a:ext cx="26049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2% de las empresas tendrán aplicaciones de compra basadas en Internet para el año 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648240"/>
            <a:ext cx="21337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2% de las grandes compañías estarán haciendo B2B en el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1924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318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EE.U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0574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Fuente: Cámara Comercio Santi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715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9933"/>
                </a:solidFill>
                <a:latin typeface="Arial"/>
              </a:rPr>
              <a:t>Fuente: Forrester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l%20Comp-Vend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276720" cy="4965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43000" y="1523880"/>
            <a:ext cx="76960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Compr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Vende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Mejor Pre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Disponibilidad del Producto/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Realización de la Trans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Gestión de Comp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Administración de Catálo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Modelo de Negocios</a:t>
            </a:r>
            <a:br>
              <a:rPr sz="2800"/>
            </a:b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Soluciones del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6880" y="6281640"/>
            <a:ext cx="6698880" cy="5691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emplazar INVENTARIO por INFORM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3300"/>
                </a:solidFill>
                <a:latin typeface="Arial Black"/>
              </a:rPr>
              <a:t>¿Qué es un Marketplace B2B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s un espacio virtual de encuentro entre múltiples compradores y vendedores, que pueden realizar operaciones bajo distintas modalidades en cuanto a condiciones comer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73240" y="5181480"/>
            <a:ext cx="169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Comp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3320" y="5181480"/>
            <a:ext cx="160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Suppliers" descr=""/>
          <p:cNvPicPr/>
          <p:nvPr/>
        </p:nvPicPr>
        <p:blipFill>
          <a:blip r:embed="rId1"/>
          <a:srcRect l="19606" t="28110" r="18801" b="30332"/>
          <a:stretch/>
        </p:blipFill>
        <p:spPr>
          <a:xfrm>
            <a:off x="3205080" y="2917800"/>
            <a:ext cx="874800" cy="709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624800" y="144792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29" name="Suppliers" descr=""/>
          <p:cNvPicPr/>
          <p:nvPr/>
        </p:nvPicPr>
        <p:blipFill>
          <a:blip r:embed="rId3"/>
          <a:srcRect l="19606" t="28110" r="18801" b="30332"/>
          <a:stretch/>
        </p:blipFill>
        <p:spPr>
          <a:xfrm>
            <a:off x="3205080" y="1474920"/>
            <a:ext cx="874800" cy="711000"/>
          </a:xfrm>
          <a:prstGeom prst="rect">
            <a:avLst/>
          </a:prstGeom>
          <a:ln w="0">
            <a:noFill/>
          </a:ln>
        </p:spPr>
      </p:pic>
      <p:pic>
        <p:nvPicPr>
          <p:cNvPr id="230" name="Suppliers" descr=""/>
          <p:cNvPicPr/>
          <p:nvPr/>
        </p:nvPicPr>
        <p:blipFill>
          <a:blip r:embed="rId4"/>
          <a:srcRect l="19606" t="28110" r="18801" b="30332"/>
          <a:stretch/>
        </p:blipFill>
        <p:spPr>
          <a:xfrm>
            <a:off x="3205080" y="4349880"/>
            <a:ext cx="874800" cy="763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24800" y="288936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624800" y="4348080"/>
            <a:ext cx="1112760" cy="76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cxnSp>
        <p:nvCxnSpPr>
          <p:cNvPr id="233" name=""/>
          <p:cNvCxnSpPr>
            <a:stCxn id="229" idx="3"/>
            <a:endCxn id="228" idx="1"/>
          </p:cNvCxnSpPr>
          <p:nvPr/>
        </p:nvCxnSpPr>
        <p:spPr>
          <a:xfrm>
            <a:off x="4079520" y="1829880"/>
            <a:ext cx="3545640" cy="10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4" name=""/>
          <p:cNvCxnSpPr>
            <a:stCxn id="229" idx="3"/>
            <a:endCxn id="231" idx="1"/>
          </p:cNvCxnSpPr>
          <p:nvPr/>
        </p:nvCxnSpPr>
        <p:spPr>
          <a:xfrm>
            <a:off x="4079520" y="1830240"/>
            <a:ext cx="3545640" cy="144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5" name=""/>
          <p:cNvCxnSpPr>
            <a:stCxn id="229" idx="3"/>
            <a:endCxn id="232" idx="1"/>
          </p:cNvCxnSpPr>
          <p:nvPr/>
        </p:nvCxnSpPr>
        <p:spPr>
          <a:xfrm>
            <a:off x="4079520" y="1829880"/>
            <a:ext cx="3545640" cy="29008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6" name=""/>
          <p:cNvCxnSpPr>
            <a:stCxn id="227" idx="3"/>
            <a:endCxn id="228" idx="1"/>
          </p:cNvCxnSpPr>
          <p:nvPr/>
        </p:nvCxnSpPr>
        <p:spPr>
          <a:xfrm flipV="1">
            <a:off x="4079520" y="1829520"/>
            <a:ext cx="3545640" cy="14439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7" name=""/>
          <p:cNvCxnSpPr>
            <a:stCxn id="230" idx="3"/>
            <a:endCxn id="228" idx="1"/>
          </p:cNvCxnSpPr>
          <p:nvPr/>
        </p:nvCxnSpPr>
        <p:spPr>
          <a:xfrm flipV="1">
            <a:off x="4079520" y="1829520"/>
            <a:ext cx="3545640" cy="29026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8" name=""/>
          <p:cNvCxnSpPr>
            <a:stCxn id="227" idx="3"/>
            <a:endCxn id="231" idx="1"/>
          </p:cNvCxnSpPr>
          <p:nvPr/>
        </p:nvCxnSpPr>
        <p:spPr>
          <a:xfrm flipV="1">
            <a:off x="4079520" y="3270960"/>
            <a:ext cx="3545640" cy="252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9" name=""/>
          <p:cNvCxnSpPr>
            <a:stCxn id="227" idx="3"/>
            <a:endCxn id="232" idx="1"/>
          </p:cNvCxnSpPr>
          <p:nvPr/>
        </p:nvCxnSpPr>
        <p:spPr>
          <a:xfrm>
            <a:off x="4079520" y="3273480"/>
            <a:ext cx="3545640" cy="145800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0" name=""/>
          <p:cNvCxnSpPr>
            <a:stCxn id="230" idx="3"/>
            <a:endCxn id="232" idx="1"/>
          </p:cNvCxnSpPr>
          <p:nvPr/>
        </p:nvCxnSpPr>
        <p:spPr>
          <a:xfrm flipV="1">
            <a:off x="4079520" y="4730400"/>
            <a:ext cx="3545640" cy="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1" name=""/>
          <p:cNvCxnSpPr>
            <a:stCxn id="230" idx="3"/>
          </p:cNvCxnSpPr>
          <p:nvPr/>
        </p:nvCxnSpPr>
        <p:spPr>
          <a:xfrm flipV="1">
            <a:off x="4079520" y="3265200"/>
            <a:ext cx="3561480" cy="14673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304920" y="1219320"/>
            <a:ext cx="2590560" cy="4786200"/>
          </a:xfrm>
          <a:prstGeom prst="rect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Múltiples formatos, poca efici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Hay que buscar en catálogos y otros med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No aprovecha poder de compr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información gere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OMERCI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E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LECTRONIC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T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RADICION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7080" y="1031760"/>
            <a:ext cx="8915400" cy="128304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El punto de acceso a la Comunidad Comercial donde las empresas puedan realizar transacciones de comercio electrónico B2B en un </a:t>
            </a:r>
            <a:r>
              <a:rPr b="0" lang="es-MX" sz="2000" spc="-1" strike="noStrike">
                <a:solidFill>
                  <a:srgbClr val="f98d43"/>
                </a:solidFill>
                <a:latin typeface="Arial"/>
              </a:rPr>
              <a:t>ambiente abierto, ágil y accesib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49360" y="2286000"/>
            <a:ext cx="6257520" cy="4114800"/>
            <a:chOff x="1449360" y="2286000"/>
            <a:chExt cx="6257520" cy="4114800"/>
          </a:xfrm>
        </p:grpSpPr>
        <p:sp>
          <p:nvSpPr>
            <p:cNvPr id="246" name=""/>
            <p:cNvSpPr/>
            <p:nvPr/>
          </p:nvSpPr>
          <p:spPr>
            <a:xfrm>
              <a:off x="1449360" y="5029200"/>
              <a:ext cx="1698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Compra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05960" y="5029200"/>
              <a:ext cx="1600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Provee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655800" y="3621240"/>
              <a:ext cx="268524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25840" y="3625920"/>
              <a:ext cx="1159560" cy="1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1" name="Suppliers" descr=""/>
            <p:cNvPicPr/>
            <p:nvPr/>
          </p:nvPicPr>
          <p:blipFill>
            <a:blip r:embed="rId2"/>
            <a:srcRect l="19606" t="28110" r="18801" b="30332"/>
            <a:stretch/>
          </p:blipFill>
          <p:spPr>
            <a:xfrm>
              <a:off x="1641240" y="3303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Suppliers" descr=""/>
            <p:cNvPicPr/>
            <p:nvPr/>
          </p:nvPicPr>
          <p:blipFill>
            <a:blip r:embed="rId3"/>
            <a:srcRect l="19606" t="28110" r="18801" b="30332"/>
            <a:stretch/>
          </p:blipFill>
          <p:spPr>
            <a:xfrm>
              <a:off x="1641240" y="241308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Suppliers" descr=""/>
            <p:cNvPicPr/>
            <p:nvPr/>
          </p:nvPicPr>
          <p:blipFill>
            <a:blip r:embed="rId4"/>
            <a:srcRect l="19606" t="28110" r="18801" b="30332"/>
            <a:stretch/>
          </p:blipFill>
          <p:spPr>
            <a:xfrm>
              <a:off x="1641240" y="4257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flipH="1">
              <a:off x="2647440" y="3621240"/>
              <a:ext cx="1075680" cy="9540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647440" y="2793960"/>
              <a:ext cx="107568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6408720" y="2286000"/>
              <a:ext cx="1278000" cy="765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8" name="" descr=""/>
            <p:cNvPicPr/>
            <p:nvPr/>
          </p:nvPicPr>
          <p:blipFill>
            <a:blip r:embed="rId7"/>
            <a:stretch/>
          </p:blipFill>
          <p:spPr>
            <a:xfrm>
              <a:off x="6341400" y="4194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sp>
          <p:nvSpPr>
            <p:cNvPr id="259" name=""/>
            <p:cNvSpPr/>
            <p:nvPr/>
          </p:nvSpPr>
          <p:spPr>
            <a:xfrm flipH="1" flipV="1">
              <a:off x="5400720" y="3621240"/>
              <a:ext cx="940320" cy="10173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400720" y="3621240"/>
              <a:ext cx="94032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400720" y="2793960"/>
              <a:ext cx="100800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95720" y="2590920"/>
              <a:ext cx="83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Narrow"/>
                </a:rPr>
                <a:t>Por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41120" y="4199040"/>
              <a:ext cx="1625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unidad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ercia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47440" y="3621240"/>
              <a:ext cx="1073520" cy="955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714760" y="2858760"/>
              <a:ext cx="1006200" cy="76212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4720" y="5486400"/>
              <a:ext cx="6038280" cy="914400"/>
            </a:xfrm>
            <a:prstGeom prst="leftRightArrow">
              <a:avLst>
                <a:gd name="adj1" fmla="val 52778"/>
                <a:gd name="adj2" fmla="val 47692"/>
              </a:avLst>
            </a:prstGeom>
            <a:gradFill rotWithShape="0">
              <a:gsLst>
                <a:gs pos="0">
                  <a:srgbClr val="3e2500"/>
                </a:gs>
                <a:gs pos="50000">
                  <a:srgbClr val="ff9900"/>
                </a:gs>
                <a:gs pos="100000">
                  <a:srgbClr val="3e2500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Univers Condensed"/>
                </a:rPr>
                <a:t>Solución Integr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7" name="globo" descr=""/>
            <p:cNvPicPr/>
            <p:nvPr/>
          </p:nvPicPr>
          <p:blipFill>
            <a:blip r:embed="rId8"/>
            <a:stretch/>
          </p:blipFill>
          <p:spPr>
            <a:xfrm>
              <a:off x="3915000" y="3124080"/>
              <a:ext cx="1257480" cy="10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ERCADO 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IRTU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Artik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3298680"/>
            <a:ext cx="7696080" cy="1792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06752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34120" y="2320920"/>
            <a:ext cx="1857600" cy="95580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27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1160" y="2320920"/>
            <a:ext cx="18540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895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56160" y="2320920"/>
            <a:ext cx="18572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87800" y="269388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52960" y="2320920"/>
            <a:ext cx="18554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2800" y="269388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0" y="2320920"/>
            <a:ext cx="18558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7200" y="2320920"/>
            <a:ext cx="1780920" cy="95580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6960" y="1676520"/>
            <a:ext cx="231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9480" y="1676520"/>
            <a:ext cx="23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Financi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6752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34120" y="5140440"/>
            <a:ext cx="1857600" cy="95544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27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1160" y="5140440"/>
            <a:ext cx="18540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895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6160" y="5140440"/>
            <a:ext cx="18572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87800" y="551340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52960" y="5140440"/>
            <a:ext cx="18554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2800" y="551340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0" y="5140440"/>
            <a:ext cx="18558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7200" y="5140440"/>
            <a:ext cx="1780920" cy="95544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485200" y="617184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9760" y="2409840"/>
            <a:ext cx="1865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elección Provee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atálogos electrónic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olicita 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26120" y="256212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26120" y="545796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8280" y="5457960"/>
            <a:ext cx="95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6840" y="2486160"/>
            <a:ext cx="1382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reación / Enví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23200" y="5305320"/>
            <a:ext cx="125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72040" y="5207040"/>
            <a:ext cx="105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nví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8920" y="2387520"/>
            <a:ext cx="992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69200" y="2638440"/>
            <a:ext cx="115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fectúa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33920" y="5457960"/>
            <a:ext cx="110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ibe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78800" y="263844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78800" y="545796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98d43"/>
                </a:solidFill>
                <a:latin typeface="Arial"/>
              </a:rPr>
              <a:t>Cadena del V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6960" y="3962520"/>
            <a:ext cx="318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Servicios del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0:00:22Z</dcterms:created>
  <dc:creator>Iván Braga</dc:creator>
  <dc:description/>
  <dc:language>en-US</dc:language>
  <cp:lastModifiedBy>MRiera</cp:lastModifiedBy>
  <dcterms:modified xsi:type="dcterms:W3CDTF">2001-07-24T21:31:46Z</dcterms:modified>
  <cp:revision>14</cp:revision>
  <dc:subject/>
  <dc:title>Presentación de PowerPoint</dc:title>
</cp:coreProperties>
</file>